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9230-9042-489A-93BA-FE5998D57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4D2-53D5-4BBA-9F0F-ABAD6548590A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953-9361-43E1-A38D-B741FDC6E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767E-208C-4373-85E6-ECF877B7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EBB3-AA3C-4287-9137-699163FE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F50-3C2D-48A1-8FEF-F629C0408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9CB4-FF8E-442E-BB69-E3A662C2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83F0-7E7E-4C6E-848F-76B952BA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FD91-9C52-46DE-9C99-BF05143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CF9-8F89-4565-A1F8-A00FD64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4F7F-99BD-4547-B23C-614605E1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4BE5-0EB4-4ADA-9F72-82ED0F8C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E811-A1A2-4A33-81E9-E2EDD3E5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F11-192C-4803-BB19-4A81C21D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F55B-9B2D-43B4-986C-5DF2D38C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6E14-F496-4AC4-B02C-2DCCD28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9EBB-190F-453D-8CEF-E750F845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257C-AD4F-46BA-8489-9F5E6181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4E37-62E4-49B3-BE42-02DFC168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05A-F344-4613-8548-5DA7DFE6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EFB-F8AA-474A-88CF-77FC9566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840-02C3-415E-943F-EA481D2B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6156-B534-43B2-9ADC-C8A3F17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FEB-9D23-426F-AB8C-E1AA6D8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27A-0077-409D-9367-4AF99525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E823-3848-41F3-9BCB-23F24052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" name="Picture 10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E3D8-F1CC-45E4-89BE-9FBC5FAC93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Freeform 10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59" name="Picture 11" descr="C:\My Documents\bits\Facbanna.png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339-DDE1-4D7D-88F4-67E6F7A330E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eading.uoregon.edu/big_ideas/pa/pa_skills_iso.php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reading.uoregon.edu/big_ideas/pa/pa_skills_seg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ading.uroegon.edu/" TargetMode="External"/><Relationship Id="rId2" Type="http://schemas.openxmlformats.org/officeDocument/2006/relationships/hyperlink" Target="http://www.nifl.gov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arly Reading Skills: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Teaching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    Phonemic 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          Aware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666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achers increase effectiveness when the manipulation of letters is added to phonemic awareness tasks. Phonemic awareness is an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uditory skill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needs to be taught 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plicitly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 The instructional program must show children what they are expected to do. Teachers mus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del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kills they want children to perform before the children are asked to demonstrate the skill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0666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re are a lot of skills in phonemic awareness, but research has found that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ending and segmentation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re the 2 critical skills that must be taught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struction must focus on blending and segmenting words at the phoneme, or sound level. This is an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udito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 has found that you get better results when teaching phonemic awareness to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ll groups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 children rather than an entire clas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ound Isol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ow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children how to do all the steps in the task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asking children to do the task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: (Put down 2 pictures that begin with different sounds and say the names of the pictures.) "My turn to say the first sound in man, /mmm/. Man begins with /mmm/. Everyone, say the first sound in man, /mmm.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Non-exampl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"Who can tell me the first sounds in these pictures?"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66680" y="5331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Use consistent and brief word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: "The first sound in man is /mmm/. Everyone say the first sound in man, /mmm/.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n-example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: "Man starts with the same sound as the first sounds in mountain, mop, and Miranda. Does anyone know other words that begin with the same sound as man?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066680" y="6858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Correct errors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ling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the answer and having children repeat the correct answer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: "The first sound in man is /mmm/. Say the first sound in man with me, /mmm/. /Mmmm/.“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Non-example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: Asking the question again or asking more questions. "Look at the picture again. What is the first sound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ok Fors…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ings to look for in this clip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teacher does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s materials effortless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many opportunities for both group and individual student respons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onitors student behavior closely and confirms student understanding by repeating the correct respons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student does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ces and practices the new skill multiple ti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swers with highly accurate responses in group and individual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cipates actively during instruc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ideo Demonstration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oregon.edu/big_ideas/pa/pa_skills_iso.php#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instructional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rst-sound isolation with new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dentify final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gment individual sounds in wor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What is Phonemic Awareness?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is an understanding that speech is composed of individual s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lend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o blend, use examples with continuous sounds, because the sounds can be stretched and hel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"Listen, my lion puppet likes to talk in a broken way. When he says /mmm/ - /ooo/ - /mmm/ he means mom.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"Listen, my lion puppet likes to talk in a broken way. When he says /b/ - /e/ - /d/ he means bed.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0666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he task, use short words in teaching and practice examples. Use pictures when possibl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Put down 3 pictures of CVC words and say: "My lion puppet wants one of these pictures. Listen to hear which picture he wants, /sss/ - /uuu/ - /nnn/. Which picture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".../p/ - /e/ - /n/ - /c/ - /i/ - /l/. Which picture?"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(This is a more advanced model that should be used later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en children are first learning the task, use materials that reduce memory load and to represent sou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Use pictures to help children remember the words and to focus their attention. Use a 3-square strip or blocks to represent sounds in a word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Provide only verbal activit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066680" y="3805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 children become successful during initial learning, remove scaffolds by using progressively more difficult examples. As children become successful with more difficult examples, use fewer scaffolds, such as pictu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Move from syllable or onset-rime blending to blending with all sounds in a word (phoneme blending). Remove scaffolds, such as pictures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"Listen, /s/ - /t/ - /o/ - /p/. Which picture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"Listen, /s/ - /t/ - /o/ - /p/. What word?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Provide instruction and practice at only the easiest levels with all the scaffol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oneme Seg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cycle instructional and practice examples used for blending. Blending and segmenting are sides of the same coin. The only difference is whether children hear or produce a segmented word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te: A segmenting response is more difficult for children to reproduce than a blending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"Listen, my lion puppet likes to say the sounds in words. The sounds in mom are /mmm/ - /ooo/ - /mmm/. Say the sounds in mom with us. "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6668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urrently teach letter-sound correspondences for the sounds children will be segmenting in wor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Letter sound /s/ and words sun and sit. Put down letter cards for familiar letter-sounds. Then, have children place pictures by the letter that begins with the same sound as the pict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Use letter-sounds that have not been taught when teaching first sound in pictures for phoneme isolation activit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ke the connections between sounds in words and sounds of lett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After children can segment the first sound, have them use letter tiles to represent the sou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-example: Letters in mastered phonologic activities are not used. Explicit connections between alphabetic and phonologic activities are not mad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phonologic skills to teach more advanced reading skills, such as blending letter-sounds to read wor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ample: (Give children a 3-square strip and the letter tiles for s, u, n.) Have children do familiar tasks and blending to teach stretched blending with letter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ook Fors….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teacher do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views how to segment words into phonem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s finger to track the individual sounds in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reminders to students to segment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What the student does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firms responses by sounding out word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ays sounds corresponding to letter til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sponds in unison with teach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ideo Demonstr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oregon.edu/big_ideas/pa/pa_skills_seg.php#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Targets for Phonemic Awareness (Adams,1990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ppreciation of sound in spoken language (recitation of nursery rhymes). RFS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compare and contrast sounds in words by grouping words with similar or dissimilar sounds (beginning, middle, and end of words). RFS.2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blend and split syllables. RFS.2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onemic segmentation or the ability to isolate individual sounds in syllables.  RFS.2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bility to manipulate phonemes by omitting and deleting phonemes to make new words. RFS.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Next instructional objectives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tinue sequential segmentation with new sou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pelling single-syllable regular words correctly and independ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ams, M.J. (1990)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Beginning to read: Thinking and learning about print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Cambridge, MA: MIT Pres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ams, M.J., Foorman, B.R., Lundberg, I, &amp; Beeler, T. (1998)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Phonemic Awareness in Young Children: A classroom curriculum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Baltimore, MD : Paul H. Brooks Publishing Co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ood III, R. H.  Dynamic Indicators of Basic Early Literacy Skills (DIBELS) with CBM. 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Early Childhood Research Institute on Measuring Growth and Development.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Eugene, O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Good III, R. H., Simmons, D. C., &amp; Smith, S. B. (1998). Effective academic intervention in the United States: Evaluating and enhancing the acquistion of early reading skills. 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 School Psychology Review.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Vol 27, No. 1, pp 45-56</a:t>
            </a:r>
            <a:r>
              <a:rPr b="0" i="1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ferences cont.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rossen, B. &amp; Carnine, D. (1991).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trategies for maximizing reading success in the regular classroom. In Stoner, G., Shinn, M. R., &amp; Walker, H. M. (Eds)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Interventions for achievement and behavior problems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. Silver Spring, MD: NA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essley, M. (1998).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Reading instruction that works: The case for balanced teaching.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New York, NY: The Guilford Pres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nider, V. E. (1995). A primer on phonemic awareness: What is it, why it’s important, and how to teach it.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  School Psychology Review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, Vol. 24, No. 3, 443-455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DIBELS – 3D information 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How to teach Phonemic Awarenes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5 Features of effective interventions (Good III et.al., 1998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 instruction at the phoneme lev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affold tasks and exampl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skills prior to practice and provide opportunities for students to produce isolated sounds oral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vide systematic and strategic instruction for identifying sounds in words, blending and segmenting, and culminate with integration of phonological awareness and letter-sound correspondence instruc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oncrete materials to represent sounds 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deling activ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aching vs. practi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importance of scope and sequence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arger units before smaller units (words before syllable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tinuous before stop sounds (cont.: f, l, m, n, stop: b, c, d, g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ewer sounds before more sounds (VC or CV before CV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lending and segmenting before manipulation (e.g. removing sounds to make new word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al before written languag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honemic Teaching Method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Phonemic Awareness in Young Children: A Classroom Curriculu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.(Adams, Foorman, Lundberg, &amp; Beeler, 1998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use of language ga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lay regularly (15-20 mi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 in order of sequen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se both segmenting (analysis) and blending (synthesis) activi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68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ading  Behavi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ding left to righ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ing a return sweep rather than a slow retur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nitoring whether story makes sen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arching for cues from contex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reading when uncle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lf-corr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ortant Resourc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reading.uroegon.edu/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ig Ideas in Beginning Re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97c01"/>
                </a:solidFill>
                <a:uFillTx/>
                <a:latin typeface="Arial"/>
                <a:hlinkClick r:id="rId2"/>
              </a:rPr>
              <a:t>http://www.nifl.gov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onal Institute for Litera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tional Reading Panel Upda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ritical Features of PA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onemic Awareness is a critical component of reading instruction but not an entire reading program. It absolutely needs to be taught, but should only be 10-15 minutes per day of your reading instruct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University of Oregon Center for Teaching and Learning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05:35:40Z</dcterms:created>
  <dc:creator>Brandy</dc:creator>
  <dc:description/>
  <dc:language>en-US</dc:language>
  <cp:lastModifiedBy> </cp:lastModifiedBy>
  <dcterms:modified xsi:type="dcterms:W3CDTF">2012-06-14T17:59:46Z</dcterms:modified>
  <cp:revision>26</cp:revision>
  <dc:subject/>
  <dc:title>Phonemic Awareness and Reading</dc:title>
</cp:coreProperties>
</file>